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082600" y="744120"/>
            <a:ext cx="26319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5f5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6637-653D-43EA-BBCB-F16FA721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082960" y="744480"/>
            <a:ext cx="26319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スライド番号プレースホルダー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BAB9-551C-43D9-B526-4865C7935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C79-F5E7-4794-946E-0ABF1E12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53B-0CC4-4038-89B7-4914044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22A-C0B7-427F-8A34-7B415435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068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1436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64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068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1436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760-3E26-48F8-998D-AA83E71C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9255-FDC8-42D5-A3DF-D43ABD84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3C20-72D5-4DCD-B2B8-DC77047E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CFC2-B42C-421D-809F-F1FB282B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009C-6183-4B09-A261-625F2313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7567-206A-419C-9FD5-CE4DDC1F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66640" y="949320"/>
            <a:ext cx="642960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167E-3C55-4D77-99D2-047E90E1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BD9D-9389-45E9-9F29-A1EDD30F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729-8D77-49B2-8909-FF457F40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016C-E2CF-4A8F-BCB5-0BCD7FB7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A31B-E2CD-415A-9DE2-DA661687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C68C-A730-4370-BD21-F0C6D10E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C890-6605-46AD-8A8F-DFF22EB0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068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14360" y="30873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64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4068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14360" y="6437160"/>
            <a:ext cx="20700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52D5-DEF4-4FBF-A066-A3CCB877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439-0E4A-4ACE-A47A-8C9EA67B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A8E-A489-46F4-9E9C-675ACA1E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E7F-6C93-47FF-8E89-A1BC7FB0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640" y="949320"/>
            <a:ext cx="642960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21E-384C-4490-BEB1-655C809C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298-75AB-4ADF-B096-20F10DD0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360" y="64371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891-22B3-4F11-B45C-522E7D2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64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360" y="3087360"/>
            <a:ext cx="31374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640" y="6437160"/>
            <a:ext cx="642960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A91-DAEB-4459-BFBB-BA72886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5f5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628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739080"/>
            <a:ext cx="2394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17C0-8CAD-490D-BE2B-7580D7BCFF4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640" y="949320"/>
            <a:ext cx="64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5f5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640" y="3087360"/>
            <a:ext cx="6429600" cy="64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6628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84440" y="9739080"/>
            <a:ext cx="2394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19440" y="9739080"/>
            <a:ext cx="1576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3E10-FEB2-446A-B1D5-6F79E600273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角丸四角形 87"/>
          <p:cNvSpPr/>
          <p:nvPr/>
        </p:nvSpPr>
        <p:spPr>
          <a:xfrm>
            <a:off x="171360" y="8651880"/>
            <a:ext cx="3702240" cy="19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角丸四角形 5"/>
          <p:cNvSpPr/>
          <p:nvPr/>
        </p:nvSpPr>
        <p:spPr>
          <a:xfrm>
            <a:off x="3987720" y="9736200"/>
            <a:ext cx="3456000" cy="8175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角丸四角形 5"/>
          <p:cNvSpPr/>
          <p:nvPr/>
        </p:nvSpPr>
        <p:spPr>
          <a:xfrm>
            <a:off x="189000" y="6568920"/>
            <a:ext cx="7259400" cy="1965600"/>
          </a:xfrm>
          <a:prstGeom prst="roundRect">
            <a:avLst>
              <a:gd name="adj" fmla="val 11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角丸四角形 5"/>
          <p:cNvSpPr/>
          <p:nvPr/>
        </p:nvSpPr>
        <p:spPr>
          <a:xfrm>
            <a:off x="3840120" y="2496960"/>
            <a:ext cx="3579840" cy="3195720"/>
          </a:xfrm>
          <a:prstGeom prst="roundRect">
            <a:avLst>
              <a:gd name="adj" fmla="val 110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角丸四角形 5"/>
          <p:cNvSpPr/>
          <p:nvPr/>
        </p:nvSpPr>
        <p:spPr>
          <a:xfrm>
            <a:off x="93600" y="2535120"/>
            <a:ext cx="3579840" cy="20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角丸四角形 5"/>
          <p:cNvSpPr/>
          <p:nvPr/>
        </p:nvSpPr>
        <p:spPr>
          <a:xfrm>
            <a:off x="3862440" y="600120"/>
            <a:ext cx="3616200" cy="179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-7920" y="-3240"/>
            <a:ext cx="7562880" cy="542880"/>
          </a:xfrm>
          <a:prstGeom prst="rect">
            <a:avLst/>
          </a:prstGeom>
          <a:solidFill>
            <a:srgbClr val="3fa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31760" y="7920"/>
            <a:ext cx="567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岡山県コミュニケーションボード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9"/>
          <p:cNvSpPr/>
          <p:nvPr/>
        </p:nvSpPr>
        <p:spPr>
          <a:xfrm>
            <a:off x="5514840" y="9684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―</a:t>
            </a:r>
            <a:r>
              <a:rPr b="1" lang="ja-JP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スーパー用</a:t>
            </a:r>
            <a:r>
              <a:rPr b="1" lang="en-US" sz="16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―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角丸四角形 5"/>
          <p:cNvSpPr/>
          <p:nvPr/>
        </p:nvSpPr>
        <p:spPr>
          <a:xfrm>
            <a:off x="184320" y="5767560"/>
            <a:ext cx="7253280" cy="707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5"/>
          <p:cNvSpPr/>
          <p:nvPr/>
        </p:nvSpPr>
        <p:spPr>
          <a:xfrm>
            <a:off x="50760" y="4151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スプーン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5"/>
          <p:cNvSpPr/>
          <p:nvPr/>
        </p:nvSpPr>
        <p:spPr>
          <a:xfrm>
            <a:off x="1627200" y="4149720"/>
            <a:ext cx="10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ォー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1"/>
          <p:cNvSpPr/>
          <p:nvPr/>
        </p:nvSpPr>
        <p:spPr>
          <a:xfrm>
            <a:off x="1936800" y="6600960"/>
            <a:ext cx="37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支払方法は何ですか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0" y="3321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割りば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5"/>
          <p:cNvSpPr/>
          <p:nvPr/>
        </p:nvSpPr>
        <p:spPr>
          <a:xfrm>
            <a:off x="3097080" y="7900920"/>
            <a:ext cx="147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レジットカー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5"/>
          <p:cNvSpPr/>
          <p:nvPr/>
        </p:nvSpPr>
        <p:spPr>
          <a:xfrm>
            <a:off x="1346040" y="796932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バーコー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／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Q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5"/>
          <p:cNvSpPr/>
          <p:nvPr/>
        </p:nvSpPr>
        <p:spPr>
          <a:xfrm>
            <a:off x="3860640" y="609480"/>
            <a:ext cx="37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ポイントカードはありま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5"/>
          <p:cNvSpPr/>
          <p:nvPr/>
        </p:nvSpPr>
        <p:spPr>
          <a:xfrm>
            <a:off x="4070520" y="9848880"/>
            <a:ext cx="27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ビスカウンター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願いしま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5"/>
          <p:cNvSpPr/>
          <p:nvPr/>
        </p:nvSpPr>
        <p:spPr>
          <a:xfrm>
            <a:off x="3873600" y="425304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身分証明書はありま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103320" y="592200"/>
            <a:ext cx="3578040" cy="185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5"/>
          <p:cNvSpPr/>
          <p:nvPr/>
        </p:nvSpPr>
        <p:spPr>
          <a:xfrm>
            <a:off x="230040" y="59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レジ袋は必要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図 5" descr=""/>
          <p:cNvPicPr/>
          <p:nvPr/>
        </p:nvPicPr>
        <p:blipFill>
          <a:blip r:embed="rId1"/>
          <a:stretch/>
        </p:blipFill>
        <p:spPr>
          <a:xfrm>
            <a:off x="244440" y="1131840"/>
            <a:ext cx="995400" cy="102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5"/>
          <p:cNvSpPr/>
          <p:nvPr/>
        </p:nvSpPr>
        <p:spPr>
          <a:xfrm>
            <a:off x="798480" y="1041480"/>
            <a:ext cx="198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（　）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中（　）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（　）円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5"/>
          <p:cNvSpPr/>
          <p:nvPr/>
        </p:nvSpPr>
        <p:spPr>
          <a:xfrm>
            <a:off x="-114480" y="809640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現金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図 10" descr=""/>
          <p:cNvPicPr/>
          <p:nvPr/>
        </p:nvPicPr>
        <p:blipFill>
          <a:blip r:embed="rId2"/>
          <a:stretch/>
        </p:blipFill>
        <p:spPr>
          <a:xfrm>
            <a:off x="393840" y="710892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114" name="図 15" descr=""/>
          <p:cNvPicPr/>
          <p:nvPr/>
        </p:nvPicPr>
        <p:blipFill>
          <a:blip r:embed="rId3"/>
          <a:stretch/>
        </p:blipFill>
        <p:spPr>
          <a:xfrm>
            <a:off x="2033640" y="7012080"/>
            <a:ext cx="606240" cy="1031760"/>
          </a:xfrm>
          <a:prstGeom prst="rect">
            <a:avLst/>
          </a:prstGeom>
          <a:ln w="0">
            <a:noFill/>
          </a:ln>
        </p:spPr>
      </p:pic>
      <p:pic>
        <p:nvPicPr>
          <p:cNvPr id="115" name="図 17" descr=""/>
          <p:cNvPicPr/>
          <p:nvPr/>
        </p:nvPicPr>
        <p:blipFill>
          <a:blip r:embed="rId4"/>
          <a:stretch/>
        </p:blipFill>
        <p:spPr>
          <a:xfrm>
            <a:off x="3282840" y="7093080"/>
            <a:ext cx="1024200" cy="722160"/>
          </a:xfrm>
          <a:prstGeom prst="rect">
            <a:avLst/>
          </a:prstGeom>
          <a:ln w="0">
            <a:noFill/>
          </a:ln>
        </p:spPr>
      </p:pic>
      <p:pic>
        <p:nvPicPr>
          <p:cNvPr id="116" name="図 18" descr=""/>
          <p:cNvPicPr/>
          <p:nvPr/>
        </p:nvPicPr>
        <p:blipFill>
          <a:blip r:embed="rId5"/>
          <a:stretch/>
        </p:blipFill>
        <p:spPr>
          <a:xfrm>
            <a:off x="4846680" y="6926400"/>
            <a:ext cx="896760" cy="1233360"/>
          </a:xfrm>
          <a:prstGeom prst="rect">
            <a:avLst/>
          </a:prstGeom>
          <a:ln w="0">
            <a:noFill/>
          </a:ln>
        </p:spPr>
      </p:pic>
      <p:pic>
        <p:nvPicPr>
          <p:cNvPr id="117" name="図 19" descr=""/>
          <p:cNvPicPr/>
          <p:nvPr/>
        </p:nvPicPr>
        <p:blipFill>
          <a:blip r:embed="rId6"/>
          <a:stretch/>
        </p:blipFill>
        <p:spPr>
          <a:xfrm>
            <a:off x="6194520" y="6967440"/>
            <a:ext cx="919080" cy="484200"/>
          </a:xfrm>
          <a:prstGeom prst="rect">
            <a:avLst/>
          </a:prstGeom>
          <a:ln w="0">
            <a:noFill/>
          </a:ln>
        </p:spPr>
      </p:pic>
      <p:pic>
        <p:nvPicPr>
          <p:cNvPr id="118" name="図 20" descr=""/>
          <p:cNvPicPr/>
          <p:nvPr/>
        </p:nvPicPr>
        <p:blipFill>
          <a:blip r:embed="rId7"/>
          <a:stretch/>
        </p:blipFill>
        <p:spPr>
          <a:xfrm>
            <a:off x="4149720" y="1109520"/>
            <a:ext cx="1301760" cy="11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5"/>
          <p:cNvSpPr/>
          <p:nvPr/>
        </p:nvSpPr>
        <p:spPr>
          <a:xfrm>
            <a:off x="244440" y="25527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つけしま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5"/>
          <p:cNvSpPr/>
          <p:nvPr/>
        </p:nvSpPr>
        <p:spPr>
          <a:xfrm>
            <a:off x="3938760" y="2452680"/>
            <a:ext cx="35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酒・たばこの販売につい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齢確認にご協力ください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右矢印 122"/>
          <p:cNvSpPr/>
          <p:nvPr/>
        </p:nvSpPr>
        <p:spPr>
          <a:xfrm rot="16200000">
            <a:off x="5144040" y="3581640"/>
            <a:ext cx="460440" cy="408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5"/>
          <p:cNvSpPr/>
          <p:nvPr/>
        </p:nvSpPr>
        <p:spPr>
          <a:xfrm>
            <a:off x="5613480" y="34815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19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図 24" descr=""/>
          <p:cNvPicPr/>
          <p:nvPr/>
        </p:nvPicPr>
        <p:blipFill>
          <a:blip r:embed="rId8"/>
          <a:stretch/>
        </p:blipFill>
        <p:spPr>
          <a:xfrm>
            <a:off x="274680" y="2948040"/>
            <a:ext cx="716040" cy="716040"/>
          </a:xfrm>
          <a:prstGeom prst="rect">
            <a:avLst/>
          </a:prstGeom>
          <a:ln w="0">
            <a:noFill/>
          </a:ln>
        </p:spPr>
      </p:pic>
      <p:pic>
        <p:nvPicPr>
          <p:cNvPr id="124" name="図 25" descr=""/>
          <p:cNvPicPr/>
          <p:nvPr/>
        </p:nvPicPr>
        <p:blipFill>
          <a:blip r:embed="rId9"/>
          <a:stretch/>
        </p:blipFill>
        <p:spPr>
          <a:xfrm>
            <a:off x="450720" y="3637080"/>
            <a:ext cx="292320" cy="949320"/>
          </a:xfrm>
          <a:prstGeom prst="rect">
            <a:avLst/>
          </a:prstGeom>
          <a:ln w="0">
            <a:noFill/>
          </a:ln>
        </p:spPr>
      </p:pic>
      <p:pic>
        <p:nvPicPr>
          <p:cNvPr id="125" name="図 26" descr=""/>
          <p:cNvPicPr/>
          <p:nvPr/>
        </p:nvPicPr>
        <p:blipFill>
          <a:blip r:embed="rId10"/>
          <a:stretch/>
        </p:blipFill>
        <p:spPr>
          <a:xfrm>
            <a:off x="1592280" y="3662280"/>
            <a:ext cx="279360" cy="909720"/>
          </a:xfrm>
          <a:prstGeom prst="rect">
            <a:avLst/>
          </a:prstGeom>
          <a:ln w="0">
            <a:noFill/>
          </a:ln>
        </p:spPr>
      </p:pic>
      <p:pic>
        <p:nvPicPr>
          <p:cNvPr id="126" name="図 27" descr=""/>
          <p:cNvPicPr/>
          <p:nvPr/>
        </p:nvPicPr>
        <p:blipFill>
          <a:blip r:embed="rId11"/>
          <a:stretch/>
        </p:blipFill>
        <p:spPr>
          <a:xfrm>
            <a:off x="6672240" y="9806040"/>
            <a:ext cx="581040" cy="681120"/>
          </a:xfrm>
          <a:prstGeom prst="rect">
            <a:avLst/>
          </a:prstGeom>
          <a:ln w="0">
            <a:noFill/>
          </a:ln>
        </p:spPr>
      </p:pic>
      <p:sp>
        <p:nvSpPr>
          <p:cNvPr id="127" name="乗算 3"/>
          <p:cNvSpPr/>
          <p:nvPr/>
        </p:nvSpPr>
        <p:spPr>
          <a:xfrm>
            <a:off x="2567160" y="1009800"/>
            <a:ext cx="993600" cy="1095120"/>
          </a:xfrm>
          <a:custGeom>
            <a:avLst/>
            <a:gdLst/>
            <a:ahLst/>
            <a:rect l="l" t="t" r="r" b="b"/>
            <a:pathLst>
              <a:path w="993775" h="1095375">
                <a:moveTo>
                  <a:pt x="175037" y="320821"/>
                </a:moveTo>
                <a:lnTo>
                  <a:pt x="302323" y="205342"/>
                </a:lnTo>
                <a:lnTo>
                  <a:pt x="496888" y="419799"/>
                </a:lnTo>
                <a:lnTo>
                  <a:pt x="691452" y="205342"/>
                </a:lnTo>
                <a:lnTo>
                  <a:pt x="818738" y="320821"/>
                </a:lnTo>
                <a:lnTo>
                  <a:pt x="612914" y="547688"/>
                </a:lnTo>
                <a:lnTo>
                  <a:pt x="818738" y="774554"/>
                </a:lnTo>
                <a:lnTo>
                  <a:pt x="691452" y="890033"/>
                </a:lnTo>
                <a:lnTo>
                  <a:pt x="496888" y="675576"/>
                </a:lnTo>
                <a:lnTo>
                  <a:pt x="302323" y="890033"/>
                </a:lnTo>
                <a:lnTo>
                  <a:pt x="175037" y="774554"/>
                </a:lnTo>
                <a:lnTo>
                  <a:pt x="380861" y="547688"/>
                </a:lnTo>
                <a:lnTo>
                  <a:pt x="175037" y="3208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5"/>
          <p:cNvSpPr/>
          <p:nvPr/>
        </p:nvSpPr>
        <p:spPr>
          <a:xfrm>
            <a:off x="2374920" y="1913040"/>
            <a:ext cx="13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い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乗算 95"/>
          <p:cNvSpPr/>
          <p:nvPr/>
        </p:nvSpPr>
        <p:spPr>
          <a:xfrm>
            <a:off x="5891040" y="1027080"/>
            <a:ext cx="993960" cy="1095480"/>
          </a:xfrm>
          <a:custGeom>
            <a:avLst/>
            <a:gdLst/>
            <a:ahLst/>
            <a:rect l="l" t="t" r="r" b="b"/>
            <a:pathLst>
              <a:path w="993775" h="1095375">
                <a:moveTo>
                  <a:pt x="175037" y="320821"/>
                </a:moveTo>
                <a:lnTo>
                  <a:pt x="302323" y="205342"/>
                </a:lnTo>
                <a:lnTo>
                  <a:pt x="496888" y="419799"/>
                </a:lnTo>
                <a:lnTo>
                  <a:pt x="691452" y="205342"/>
                </a:lnTo>
                <a:lnTo>
                  <a:pt x="818738" y="320821"/>
                </a:lnTo>
                <a:lnTo>
                  <a:pt x="612914" y="547688"/>
                </a:lnTo>
                <a:lnTo>
                  <a:pt x="818738" y="774554"/>
                </a:lnTo>
                <a:lnTo>
                  <a:pt x="691452" y="890033"/>
                </a:lnTo>
                <a:lnTo>
                  <a:pt x="496888" y="675576"/>
                </a:lnTo>
                <a:lnTo>
                  <a:pt x="302323" y="890033"/>
                </a:lnTo>
                <a:lnTo>
                  <a:pt x="175037" y="774554"/>
                </a:lnTo>
                <a:lnTo>
                  <a:pt x="380861" y="547688"/>
                </a:lnTo>
                <a:lnTo>
                  <a:pt x="175037" y="3208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708520" y="19242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あ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乗算 108"/>
          <p:cNvSpPr/>
          <p:nvPr/>
        </p:nvSpPr>
        <p:spPr>
          <a:xfrm>
            <a:off x="2563920" y="2994120"/>
            <a:ext cx="993600" cy="1095120"/>
          </a:xfrm>
          <a:custGeom>
            <a:avLst/>
            <a:gdLst/>
            <a:ahLst/>
            <a:rect l="l" t="t" r="r" b="b"/>
            <a:pathLst>
              <a:path w="993775" h="1095375">
                <a:moveTo>
                  <a:pt x="175037" y="320821"/>
                </a:moveTo>
                <a:lnTo>
                  <a:pt x="302323" y="205342"/>
                </a:lnTo>
                <a:lnTo>
                  <a:pt x="496888" y="419799"/>
                </a:lnTo>
                <a:lnTo>
                  <a:pt x="691452" y="205342"/>
                </a:lnTo>
                <a:lnTo>
                  <a:pt x="818738" y="320821"/>
                </a:lnTo>
                <a:lnTo>
                  <a:pt x="612914" y="547688"/>
                </a:lnTo>
                <a:lnTo>
                  <a:pt x="818738" y="774554"/>
                </a:lnTo>
                <a:lnTo>
                  <a:pt x="691452" y="890033"/>
                </a:lnTo>
                <a:lnTo>
                  <a:pt x="496888" y="675576"/>
                </a:lnTo>
                <a:lnTo>
                  <a:pt x="302323" y="890033"/>
                </a:lnTo>
                <a:lnTo>
                  <a:pt x="175037" y="774554"/>
                </a:lnTo>
                <a:lnTo>
                  <a:pt x="380861" y="547688"/>
                </a:lnTo>
                <a:lnTo>
                  <a:pt x="175037" y="3208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5"/>
          <p:cNvSpPr/>
          <p:nvPr/>
        </p:nvSpPr>
        <p:spPr>
          <a:xfrm>
            <a:off x="3938760" y="3173400"/>
            <a:ext cx="34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何歳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乗算 114"/>
          <p:cNvSpPr/>
          <p:nvPr/>
        </p:nvSpPr>
        <p:spPr>
          <a:xfrm>
            <a:off x="5938920" y="4464000"/>
            <a:ext cx="993600" cy="1096920"/>
          </a:xfrm>
          <a:custGeom>
            <a:avLst/>
            <a:gdLst/>
            <a:ahLst/>
            <a:rect l="l" t="t" r="r" b="b"/>
            <a:pathLst>
              <a:path w="993775" h="1096963">
                <a:moveTo>
                  <a:pt x="174996" y="321157"/>
                </a:moveTo>
                <a:lnTo>
                  <a:pt x="302364" y="205769"/>
                </a:lnTo>
                <a:lnTo>
                  <a:pt x="496888" y="420491"/>
                </a:lnTo>
                <a:lnTo>
                  <a:pt x="691411" y="205769"/>
                </a:lnTo>
                <a:lnTo>
                  <a:pt x="818779" y="321157"/>
                </a:lnTo>
                <a:lnTo>
                  <a:pt x="612838" y="548482"/>
                </a:lnTo>
                <a:lnTo>
                  <a:pt x="818779" y="775806"/>
                </a:lnTo>
                <a:lnTo>
                  <a:pt x="691411" y="891194"/>
                </a:lnTo>
                <a:lnTo>
                  <a:pt x="496888" y="676472"/>
                </a:lnTo>
                <a:lnTo>
                  <a:pt x="302364" y="891194"/>
                </a:lnTo>
                <a:lnTo>
                  <a:pt x="174996" y="775806"/>
                </a:lnTo>
                <a:lnTo>
                  <a:pt x="380937" y="548482"/>
                </a:lnTo>
                <a:lnTo>
                  <a:pt x="174996" y="32115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5"/>
          <p:cNvSpPr/>
          <p:nvPr/>
        </p:nvSpPr>
        <p:spPr>
          <a:xfrm>
            <a:off x="5743440" y="52848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あ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角丸四角形 5"/>
          <p:cNvSpPr/>
          <p:nvPr/>
        </p:nvSpPr>
        <p:spPr>
          <a:xfrm>
            <a:off x="171360" y="4811760"/>
            <a:ext cx="3579840" cy="1671480"/>
          </a:xfrm>
          <a:prstGeom prst="roundRect">
            <a:avLst>
              <a:gd name="adj" fmla="val 149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5"/>
          <p:cNvSpPr/>
          <p:nvPr/>
        </p:nvSpPr>
        <p:spPr>
          <a:xfrm>
            <a:off x="339840" y="49179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いくつ必要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47840" y="5808600"/>
          <a:ext cx="6829200" cy="625680"/>
        </p:xfrm>
        <a:graphic>
          <a:graphicData uri="http://schemas.openxmlformats.org/drawingml/2006/table">
            <a:tbl>
              <a:tblPr/>
              <a:tblGrid>
                <a:gridCol w="682560"/>
                <a:gridCol w="682560"/>
                <a:gridCol w="684000"/>
                <a:gridCol w="682920"/>
                <a:gridCol w="682560"/>
                <a:gridCol w="682560"/>
                <a:gridCol w="682560"/>
                <a:gridCol w="684360"/>
                <a:gridCol w="682560"/>
                <a:gridCol w="68256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5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０</a:t>
                      </a:r>
                      <a:endParaRPr b="1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85"/>
          <p:cNvSpPr/>
          <p:nvPr/>
        </p:nvSpPr>
        <p:spPr>
          <a:xfrm>
            <a:off x="330120" y="527364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何番ですか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5"/>
          <p:cNvSpPr/>
          <p:nvPr/>
        </p:nvSpPr>
        <p:spPr>
          <a:xfrm>
            <a:off x="5802480" y="79135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ーポ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／ポイント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図 20" descr=""/>
          <p:cNvPicPr/>
          <p:nvPr/>
        </p:nvPicPr>
        <p:blipFill>
          <a:blip r:embed="rId12"/>
          <a:stretch/>
        </p:blipFill>
        <p:spPr>
          <a:xfrm rot="20298000">
            <a:off x="6438600" y="7346520"/>
            <a:ext cx="892080" cy="803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1"/>
          <p:cNvSpPr/>
          <p:nvPr/>
        </p:nvSpPr>
        <p:spPr>
          <a:xfrm>
            <a:off x="934920" y="8712360"/>
            <a:ext cx="21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探しですか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5"/>
          <p:cNvSpPr/>
          <p:nvPr/>
        </p:nvSpPr>
        <p:spPr>
          <a:xfrm>
            <a:off x="-228600" y="10005840"/>
            <a:ext cx="19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5"/>
          <p:cNvSpPr/>
          <p:nvPr/>
        </p:nvSpPr>
        <p:spPr>
          <a:xfrm>
            <a:off x="1224000" y="1020456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ドライアイ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2505240" y="1001412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子レン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角丸四角形 5"/>
          <p:cNvSpPr/>
          <p:nvPr/>
        </p:nvSpPr>
        <p:spPr>
          <a:xfrm>
            <a:off x="3987720" y="8656560"/>
            <a:ext cx="3449880" cy="959040"/>
          </a:xfrm>
          <a:prstGeom prst="roundRect">
            <a:avLst>
              <a:gd name="adj" fmla="val 2554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4287960" y="80694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子マネ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図 10" descr=""/>
          <p:cNvPicPr/>
          <p:nvPr/>
        </p:nvPicPr>
        <p:blipFill>
          <a:blip r:embed="rId13"/>
          <a:stretch/>
        </p:blipFill>
        <p:spPr>
          <a:xfrm>
            <a:off x="6157800" y="8764560"/>
            <a:ext cx="1082880" cy="733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1"/>
          <p:cNvSpPr/>
          <p:nvPr/>
        </p:nvSpPr>
        <p:spPr>
          <a:xfrm>
            <a:off x="4087800" y="8796240"/>
            <a:ext cx="31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筆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しましょうか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図 2" descr=""/>
          <p:cNvPicPr/>
          <p:nvPr/>
        </p:nvPicPr>
        <p:blipFill>
          <a:blip r:embed="rId14"/>
          <a:stretch/>
        </p:blipFill>
        <p:spPr>
          <a:xfrm>
            <a:off x="4218120" y="4695840"/>
            <a:ext cx="1385640" cy="884160"/>
          </a:xfrm>
          <a:prstGeom prst="rect">
            <a:avLst/>
          </a:prstGeom>
          <a:ln w="0">
            <a:noFill/>
          </a:ln>
        </p:spPr>
      </p:pic>
      <p:pic>
        <p:nvPicPr>
          <p:cNvPr id="150" name="図 4" descr=""/>
          <p:cNvPicPr/>
          <p:nvPr/>
        </p:nvPicPr>
        <p:blipFill>
          <a:blip r:embed="rId15"/>
          <a:stretch/>
        </p:blipFill>
        <p:spPr>
          <a:xfrm>
            <a:off x="1441440" y="2962440"/>
            <a:ext cx="771480" cy="772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5"/>
          <p:cNvSpPr/>
          <p:nvPr/>
        </p:nvSpPr>
        <p:spPr>
          <a:xfrm>
            <a:off x="2386080" y="3906720"/>
            <a:ext cx="13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いりませ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5"/>
          <p:cNvSpPr/>
          <p:nvPr/>
        </p:nvSpPr>
        <p:spPr>
          <a:xfrm>
            <a:off x="1606680" y="3305160"/>
            <a:ext cx="10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ストロー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5"/>
          <p:cNvSpPr/>
          <p:nvPr/>
        </p:nvSpPr>
        <p:spPr>
          <a:xfrm>
            <a:off x="4195800" y="348300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図 5" descr=""/>
          <p:cNvPicPr/>
          <p:nvPr/>
        </p:nvPicPr>
        <p:blipFill>
          <a:blip r:embed="rId16"/>
          <a:stretch/>
        </p:blipFill>
        <p:spPr>
          <a:xfrm>
            <a:off x="268200" y="9350280"/>
            <a:ext cx="919080" cy="797040"/>
          </a:xfrm>
          <a:prstGeom prst="rect">
            <a:avLst/>
          </a:prstGeom>
          <a:ln w="0">
            <a:noFill/>
          </a:ln>
        </p:spPr>
      </p:pic>
      <p:pic>
        <p:nvPicPr>
          <p:cNvPr id="155" name="図 6" descr=""/>
          <p:cNvPicPr/>
          <p:nvPr/>
        </p:nvPicPr>
        <p:blipFill>
          <a:blip r:embed="rId17"/>
          <a:stretch/>
        </p:blipFill>
        <p:spPr>
          <a:xfrm>
            <a:off x="2795760" y="9290160"/>
            <a:ext cx="946080" cy="742680"/>
          </a:xfrm>
          <a:prstGeom prst="rect">
            <a:avLst/>
          </a:prstGeom>
          <a:ln w="0">
            <a:noFill/>
          </a:ln>
        </p:spPr>
      </p:pic>
      <p:pic>
        <p:nvPicPr>
          <p:cNvPr id="156" name="図 8" descr=""/>
          <p:cNvPicPr/>
          <p:nvPr/>
        </p:nvPicPr>
        <p:blipFill>
          <a:blip r:embed="rId18"/>
          <a:stretch/>
        </p:blipFill>
        <p:spPr>
          <a:xfrm>
            <a:off x="1530360" y="9325080"/>
            <a:ext cx="938160" cy="927000"/>
          </a:xfrm>
          <a:prstGeom prst="rect">
            <a:avLst/>
          </a:prstGeom>
          <a:ln w="0">
            <a:noFill/>
          </a:ln>
        </p:spPr>
      </p:pic>
      <p:sp>
        <p:nvSpPr>
          <p:cNvPr id="157" name="右矢印 83"/>
          <p:cNvSpPr/>
          <p:nvPr/>
        </p:nvSpPr>
        <p:spPr>
          <a:xfrm rot="5400000">
            <a:off x="6574320" y="3594960"/>
            <a:ext cx="460440" cy="40788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28T06:02:32Z</dcterms:created>
  <dc:creator/>
  <dc:description/>
  <cp:keywords/>
  <dc:language>en-US</dc:language>
  <cp:lastModifiedBy/>
  <dcterms:modified xsi:type="dcterms:W3CDTF">2024-06-27T07:43:34Z</dcterms:modified>
  <cp:revision>1</cp:revision>
  <dc:subject/>
  <dc:title/>
</cp:coreProperties>
</file>